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04EB-EFD7-4E48-81AA-84D3B4CAE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3678-D951-44BD-9DEE-035C35E2C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D8A8-8228-43EE-9116-E503BB06E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DBD-0026-4226-8B21-FF22DDD0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D17-41D6-43C0-8B91-12A9808F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70F-F837-4A8E-A108-B68A020B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B10-239E-402A-B77A-086CDA28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91B8-7D57-4148-A697-7CD0AA80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75A1-64A8-4DAD-92FD-5D2674F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EC1D-6F7D-4E52-8C01-49DD68BE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4C41-1277-4517-9765-2DE7EFAB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8A83-5448-4DA4-AF25-BED3B3AE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BBBE-C092-4E08-AA8F-8AB4EE79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C5ED-C8F9-4C5B-BCE8-23690F3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7D8-8BCD-4AB4-81A6-C9D6D3C7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660D-0011-47A8-B586-5C427DE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14B-F45E-4AD7-BEAF-247FBF9D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A463-CCCA-4520-9E79-178C3634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13EC-B5E0-4934-8073-AFC0DBAA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52A5-F5E4-40E8-8142-3853096D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7878-FF59-4ABA-A0B3-3BCCEF12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B15A-514B-4F43-B4EC-BC4F8A70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1E91-75D8-42EF-ADCC-B147EF03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C5E4-CB31-4FCB-A186-50E6E73E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32E0-2C6F-4EB0-9AB4-6CA5AD60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5A2-BDBC-4849-858C-B5DAB427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11B9-751F-47E0-AC9E-D2A07F36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689CA-FB2F-4063-BFAA-6F30FD53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E7D0-F176-41A5-A824-73F11CF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3964-AA44-48F1-9023-AF13909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BEA0-67A5-4DD2-995D-00E3D609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7CEA-FD0D-4958-956D-9759CF4A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5070-BEFA-422C-AE3B-E847F68D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8B6C-B9E3-4E2F-AFF7-FDE60392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601F-6380-4E30-BA0F-1493CB93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4634-3AF3-41C5-B51E-7F2D56A9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2FF-5D81-45B3-B9EE-26AD2DF1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E204-DE3A-441C-B517-02AE521C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83FB9-1D94-4962-B1D4-AB673710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9D71A-B4D2-4CD7-AA70-3622BCB1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0FC7-4310-4844-8560-3C151FB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CAD7-91C9-4A43-814B-23F28F2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0AD4-D32D-4C25-A885-523B4D24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5CFB-2F63-4AE9-B77B-670C47ED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EEA1-274F-4A81-850E-B0B37A1E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7F770-7904-4613-807D-5E27B4FE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2FE-5AEF-4E32-93EC-99935AF0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D0A-96FA-4C64-84CE-65CCFA76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D6A-9A4F-4207-B2E6-6CA32DD5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E9E-48CF-42B0-A6F7-574661C7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1B8-0F5C-4337-87DD-487132AC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96BB-D6F4-471F-B430-9989C61F6DC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A18-742F-40A7-8C16-E01C6D18587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86BB-9D30-4CBF-B377-04520835B4E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458-2889-4AE8-BBB4-FA9F49FBADF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uhk.edu.hk/med/acp/Rec_photo/images/10_jpg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cec0c"/>
                </a:solidFill>
                <a:latin typeface="Arial"/>
              </a:rPr>
              <a:t>14. </a:t>
            </a:r>
            <a:r>
              <a:rPr b="1" lang="sr-RS" sz="5400" spc="-1" strike="noStrike">
                <a:solidFill>
                  <a:srgbClr val="ecec0c"/>
                </a:solidFill>
                <a:latin typeface="Arial"/>
              </a:rPr>
              <a:t>ОНКОГЕНЕТИКА СТАРЕЊЕ</a:t>
            </a:r>
            <a:endParaRPr b="0" lang="en-US" sz="54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труктурне аберације хромозома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 у малигним ћелијам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еке аберације хромозома су карактеристичне за одрећене типов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анц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пр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1. Реципрочне транслокациј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Филаделфија хр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з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t 9;2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х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ронична нелимфоцитна (мијелоидна)  леукем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NL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Burkitt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ов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лимфом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t 8;14,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8; 2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2. Делециј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) деле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раку хр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з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3 (13q14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ретинобласт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б) деле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 крак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хр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зoм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1 (11p13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Wilms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ов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тум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2. Вирусно порекло канцер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1910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yton Raus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– филтрира туморе (саркома) пилића и убризгава их здравим пилићима и добија нове тумор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Раус саркома вирус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RSV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1966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yton Raus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Нобелова наград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НК-ДНК вирус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ДНК вирус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ћелији канцера никада није про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н вирус већ само његов генетички материја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протовирус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 епизом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енска основа канцер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425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протоонкоге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онкоге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гени супресор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гени мутатор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Протоонкоген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едстављају непатолошке форме онкоге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онтролишу ритам ћелијске деоб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одукти поро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когена су специфични протеи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Протоонкогени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ска локализација продуката протоонкогена и њихова биохемијска функција условили су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класификац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отоонкоге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Протоонкогени који кодирају факторе ра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Протоонкогени који кодирају рецепторе за факторе раст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тирозин киназна активност најчешће-екстрацелуларни домен, трансмембрански и интрацелуларн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Протоонкогени чији продукти учествују у преношењу ћелијског сигнала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s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фамилија ге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a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a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 Проду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s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1ras –активан је само када је повезан з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.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дролизо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TP p21ras постаје неактив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1196640"/>
            <a:ext cx="78548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Протоонкогени који кодирају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sr-CS" sz="2200" spc="-1" strike="noStrike">
                <a:solidFill>
                  <a:srgbClr val="c00000"/>
                </a:solidFill>
                <a:latin typeface="Arial"/>
              </a:rPr>
              <a:t>једарне протеине 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анскрипциони фактори (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с-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yc </a:t>
            </a:r>
            <a:r>
              <a:rPr b="1" i="1" lang="sr-CS" sz="2200" spc="-1" strike="noStrike">
                <a:solidFill>
                  <a:srgbClr val="000000"/>
                </a:solidFill>
                <a:latin typeface="Arial"/>
              </a:rPr>
              <a:t>ге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. Продукт овог гена је одговоран за прихватање сигнала, када је стигао до једра. Делује директно на ДНК и доводи до експресије гена  одговорних за  репродукцију или диференцијацију ћел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МУТАЦИЈЕ ПРОТООНКОГЕНА ИМАЈУ ДОМИНАНТАН ЕФЕКАТ - ДОВОЉНА ЈЕ МУТАЦИЈА ЈЕДНОГ АЛЕЛА!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28000"/>
          </a:bodyPr>
          <a:p>
            <a:pPr marL="207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Онкоге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7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7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7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когени могу настати из протоонкогена и проузроковати канцер. По порекл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огу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7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В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</a:rPr>
              <a:t>ирусни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 онкоген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ирусни г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Ћ</a:t>
            </a:r>
            <a:r>
              <a:rPr b="1" lang="sr-Latn-CS" sz="2000" spc="-1" strike="noStrike">
                <a:solidFill>
                  <a:srgbClr val="c00000"/>
                </a:solidFill>
                <a:latin typeface="Arial"/>
              </a:rPr>
              <a:t>елијски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 онкоге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ни су у самим ћелиј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7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ансформација протоонкогена у онкоген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228240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Структурна промена ген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ији је резултат синтеза измењеног протеина - </a:t>
            </a:r>
            <a:r>
              <a:rPr b="1" i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онкопроте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Промена регулације експресије протоoнкоген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ији је резултат појачана или неадекватна продукција регулатора који су одговорни за ћелијску деоб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јчешће промене протоонкогена: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Тачкасте (р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oint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)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ута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Хромозомске абера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Амплификац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) Поинт мутације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познатији пример поинт мутација протоонкогена је мутација </a:t>
            </a:r>
            <a:r>
              <a:rPr b="1" i="1" lang="sr-Latn-CS" sz="2000" spc="-1" strike="noStrike">
                <a:solidFill>
                  <a:srgbClr val="c00000"/>
                </a:solidFill>
                <a:latin typeface="Arial"/>
              </a:rPr>
              <a:t>r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12p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што за последицу има замену аминокиселин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ицин у вал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инт мутације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ra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дукују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GTP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з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s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еина, тако д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је везан с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TP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тако је стално активир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у мутацију и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90% оболелих о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c00000"/>
                </a:solidFill>
                <a:latin typeface="Arial"/>
              </a:rPr>
              <a:t>аденокарцинома панкреас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50% канцера </a:t>
            </a:r>
            <a:r>
              <a:rPr b="0" lang="sr-CS" sz="2000" spc="-1" strike="noStrike">
                <a:solidFill>
                  <a:srgbClr val="c00000"/>
                </a:solidFill>
                <a:latin typeface="Arial"/>
              </a:rPr>
              <a:t>коло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30% </a:t>
            </a:r>
            <a:r>
              <a:rPr b="0" lang="sr-CS" sz="2000" spc="-1" strike="noStrike">
                <a:solidFill>
                  <a:srgbClr val="c00000"/>
                </a:solidFill>
                <a:latin typeface="Arial"/>
              </a:rPr>
              <a:t>аденокарцинома плућа и мијелоидних леукемија</a:t>
            </a:r>
            <a:r>
              <a:rPr b="0" lang="sr-C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 мутaцијa није пронaђенa код кaнцерa грлића материце, метерице и дој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) Хромозомске структурне аберације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ичан пример хромозомских структурних аберација пронађених у малигним ћелијама су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реципрочне трансло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пронађене у ћелија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urk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-oв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лимф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) Хроничне нелимфоцитне леукемије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570800" cy="32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ко ћелија изгуби контролу ћелијског дељења настаје ћелијска мас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Arial"/>
              </a:rPr>
              <a:t>тумор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ромозомске транслокације у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Burk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лимфому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5" name="Picture 4" descr="Burkitov limfom"/>
          <p:cNvPicPr/>
          <p:nvPr/>
        </p:nvPicPr>
        <p:blipFill>
          <a:blip r:embed="rId1"/>
          <a:stretch/>
        </p:blipFill>
        <p:spPr>
          <a:xfrm>
            <a:off x="3419640" y="2205000"/>
            <a:ext cx="5724360" cy="4295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349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ранслокације се могу догодити измећу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8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хромозо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анслокацијом се </a:t>
            </a:r>
            <a:r>
              <a:rPr b="1" i="1" lang="sr-RS" sz="22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yc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ји се налази на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q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краку 8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хромозома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премешт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22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или </a:t>
            </a:r>
            <a:r>
              <a:rPr b="0" lang="sr-RS" sz="2200" spc="-1" strike="noStrike">
                <a:solidFill>
                  <a:srgbClr val="c00000"/>
                </a:solidFill>
                <a:latin typeface="Arial"/>
              </a:rPr>
              <a:t>2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хромоз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активи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) Хронична нелимфоцитна леукемија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NLL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713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ћелијам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NLL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транслокација се догодил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између 9. и 22. хромозома. Транслоцирани сегмент са хромозома број 9 садржи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abl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 место на хромозому број 22 на које се овај сегмент уграђује садржи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bcr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, тако да њ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ховом фузијом на 22. хромозому настаје Филаделфија хромоз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иладелфија хромозом је карактеристичан з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NLL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Trans_9_22"/>
          <p:cNvPicPr/>
          <p:nvPr/>
        </p:nvPicPr>
        <p:blipFill>
          <a:blip r:embed="rId1"/>
          <a:srcRect l="0" t="0" r="0" b="23306"/>
          <a:stretch/>
        </p:blipFill>
        <p:spPr>
          <a:xfrm>
            <a:off x="1187280" y="981000"/>
            <a:ext cx="69566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fig15"/>
          <p:cNvPicPr/>
          <p:nvPr/>
        </p:nvPicPr>
        <p:blipFill>
          <a:blip r:embed="rId1"/>
          <a:stretch/>
        </p:blipFill>
        <p:spPr>
          <a:xfrm>
            <a:off x="1187280" y="1125360"/>
            <a:ext cx="659952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) Амплификација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А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лификац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множавањ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којим се 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оже произвес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еколико стотина копија протоонкоге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имери амплификације с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дубл минутни фрагмен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т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зависни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ал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фрагменти (двојни мали сегмент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хомогено обојени регион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оквиру хромозома 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S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DМ</a:t>
            </a:r>
            <a:r>
              <a:rPr b="1" lang="sr-RS" sz="2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HSR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представљају велики број копија одређених ге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пецифичне амплификације гена у малигној ћелији се могу визуализовати применом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 технике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44" name="Picture 5" descr="10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637000"/>
            <a:ext cx="5715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енске мутације специфичне за одређене малигне болести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алигни тумори  дој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утаци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CA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17q 21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CA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13q 12.3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е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алигни тумори јајн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убитак хетерозиготности тумор-супресорског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CM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11q25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ена и мутаци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CA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CA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е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алигни тумори простат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утаци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PC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1q24-2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10920" y="475920"/>
            <a:ext cx="78548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ени супресори - 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нтионкоген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1484280"/>
            <a:ext cx="853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Антионкоген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речавају ћелијску дeобу. Најпознатији антионкогени с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    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јпознатији је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p53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 хром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17p13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Rb</a:t>
            </a:r>
            <a:r>
              <a:rPr b="1" lang="sr-C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раку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лецијом овог региона настаје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рeтинoбластo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    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WT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 хромозому 11. Мутација овог гена одговорна је за настанак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Wilmsov-o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г тум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    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NF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ром 17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- ос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 имају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неурофиброматозу тип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cc0099"/>
                </a:solidFill>
                <a:latin typeface="Arial"/>
              </a:rPr>
              <a:t>     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sr-R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BRCA1</a:t>
            </a:r>
            <a:r>
              <a:rPr b="0" i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200" spc="-1" strike="noStrike">
                <a:solidFill>
                  <a:srgbClr val="c00000"/>
                </a:solidFill>
                <a:latin typeface="Arial"/>
              </a:rPr>
              <a:t>BRCA2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имају улогу у развоју фамилијарног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карцинома дој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- чувар генома</a:t>
            </a:r>
            <a:br>
              <a:rPr sz="4600"/>
            </a:b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53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речава улазак оштећене ћелије у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S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фазу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терфазе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уколико не успе у томе, активира механизме самоуништења ћелије 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апоптозу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ћелијску програмирану смр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олико је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мутирао </a:t>
            </a:r>
            <a:r>
              <a:rPr b="1" i="1" lang="sr-Latn-CS" sz="2200" spc="-1" strike="noStrike">
                <a:solidFill>
                  <a:srgbClr val="c00000"/>
                </a:solidFill>
                <a:latin typeface="Arial"/>
              </a:rPr>
              <a:t>p53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анцерска ћелија је неспособна за апоптозу и то може бити један од узрока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бесмрт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канцерске ћели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културе хетероплоидних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HeLa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3160" y="1557000"/>
            <a:ext cx="78548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утацијом ових гена се повећава стопа спонтаних мутација других гена,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укључујући протоонкоген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гене супресор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и су укључени у процесе репликације и репарације ДН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 утичу директно на малигну трансформациј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2195640" y="476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4. Гени 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</a:rPr>
              <a:t>Порекло тумора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640" y="2707920"/>
            <a:ext cx="8351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умори има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клонално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моноклонално порекл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, то јест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у од једне ћелије или малог броја нормалних, анцестралних ћелија које пролазе кроз фазу малигне трансформације и стичу низ нових својста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160" y="981000"/>
            <a:ext cx="78548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љења која настају услед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мутације гена за репарацију ДН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Ксеродерма пигментозу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Атаксија телангијектаз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Блумов синдр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Фанкони анем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рактеришу се повећаним ризиком за обољевање од малигних боле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Да ли је довољна једна генска мутација да изазове малигну трансформациј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нас се сматра да су најмање две мутације (за раст и диференцијацију), а вероватно и више њих, потребне да би се нормална ћелија трансформисала у малигну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2184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утац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трајно мења геном, али није довољна да иницира трансформацију –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ИНИЦИЈАЦИЈА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фа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- канцероген стимулише иницирану ћелију-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ПРОМОЦИЈА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процес је реверзибилан и ако се прекине са дејством агенса неће се десити трансформација) - дуг је период латенције (више недеља, месеци или година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ПРОГРЕСИЈ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а је дефинитивно измењен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е може више да се врати у нормално стање,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временом постаје малиг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3628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Да ли је канцер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наследан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о за неке облике се м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же рећ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ао што су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ретинобласто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Wilmsov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ум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Да ли је канцер заразан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рус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Да ли су промене генома узрок или последица малигне алтерациј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трола и превенција малигних болести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следна предиспозиција за малигне болести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гнитет се јавља на више места код исте особе или на различитим местима код различитих чланова породице, знатно чешће него што би се очекивал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р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Малигни тумори дебелог цр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Ли-Фрауменијев синд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536400" y="835200"/>
            <a:ext cx="7858440" cy="841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Figure 1"/>
          <p:cNvPicPr/>
          <p:nvPr/>
        </p:nvPicPr>
        <p:blipFill>
          <a:blip r:embed="rId2"/>
          <a:srcRect l="0" t="0" r="0" b="38177"/>
          <a:stretch/>
        </p:blipFill>
        <p:spPr>
          <a:xfrm>
            <a:off x="684360" y="2492280"/>
            <a:ext cx="7775280" cy="2449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1908000" y="2565360"/>
            <a:ext cx="576360" cy="287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492360" y="2565360"/>
            <a:ext cx="719280" cy="358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5148360" y="2637000"/>
            <a:ext cx="792000" cy="287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908000" y="5373720"/>
            <a:ext cx="2880000" cy="43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нигни тум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5796000" y="5300640"/>
            <a:ext cx="20890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игни т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609480" y="622440"/>
            <a:ext cx="7851960" cy="7682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33160" y="2133360"/>
            <a:ext cx="7854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А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наследна боле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Настаје услед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герминативне мутације p5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 бит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наследа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 nov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ембриогенези  и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) полном ћелијом једног родитељ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е са овим синдромом имају повећан ризик за обољевање од саркома, карцинома дојке или леукемиј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следна подложност честим малигнитетим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730240"/>
            <a:ext cx="822960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лигни тумори дојк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лигнитети јајн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лигни тумори штитасте жлезд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венција или рано откривање малигнитета је крајњи циљ скрининга особа код којих постоји ризик за фамилијарни малигн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enign-malignant"/>
          <p:cNvPicPr/>
          <p:nvPr/>
        </p:nvPicPr>
        <p:blipFill>
          <a:blip r:embed="rId1"/>
          <a:stretch/>
        </p:blipFill>
        <p:spPr>
          <a:xfrm>
            <a:off x="3975120" y="692280"/>
            <a:ext cx="5168880" cy="5553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816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умор (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неоплазм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) може бити: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392436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Бениг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доброћудн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умори саморегулатор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Малиг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злоћудна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 неограниченим растом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тастазирај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4790160" y="765000"/>
            <a:ext cx="1249200" cy="45972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ениг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7146000" y="785880"/>
            <a:ext cx="1276560" cy="45972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лиг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516360" y="4724280"/>
            <a:ext cx="1761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туморск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6516360" y="5084640"/>
            <a:ext cx="1873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тромалн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чини превенције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крининг (откривање фенотипске експресије генотип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ена начина живота или исхра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дикаментозна терап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филактички хирушки поступц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Arial"/>
              </a:rPr>
              <a:t>СТАРЕЊЕ</a:t>
            </a:r>
            <a:endParaRPr b="0" lang="en-US" sz="5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3068280"/>
            <a:ext cx="87138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ар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 скуп дегенеративних процеса који настају у функцији времена, зап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чиње формирањем зигота, а завршава се смрћу вишећелијског организ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Процеси који се дешавају у току старења с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Губитак воде из ћел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Задржавање токсичних матер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мањивање метаболичких проце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нижавање биолошких функција органа и система орг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мањивање хормонске актив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ђ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пршљенским хрскавицама се таложе соли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што смањује покретљивост кичм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рвни судови се сужавају услед склеротичних проце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овећава се инциденца за обољевање најчешће од канцера..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1965. Hayflick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-овим експериментима опточиње савремена етапа идеје о старењу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Старење је условљено 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унутрашњим механизмим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оји ограничавају дужину живо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динке (121 година з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човека, за псе око 20 година, жабе око 10 год., вилиног коњица 1 да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е човека имају ограничену дужину живо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до 50 деоба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теломере</a:t>
            </a:r>
            <a:r>
              <a:rPr b="0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Хетероплоидне ћелије живе бесконачно (HeLa, 195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орије о старењу код људи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3026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Мутационе теор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оматске мутације – најчешће су рецесивне, али и доминант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кодоминант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утац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старењу се повећава и експресивност мут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лаби механизам поправке мут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порава с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лијска део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раста број хромозомских аберација (анеуплоидије код жена после 35. годи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липлоидије се повећава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неуплоидије се повећава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руктурне аберације се так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 повећава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лучајне сегрегације хромоз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Теорија скраћивања крајев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Теорија слободних радикал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употреба антиоксиданас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Теорија генетског са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вља питање да ли је брзина старења програмир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? Да ли постоји генетски сат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нас не постоји идеална теорија старења јер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 једна од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остојећи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ориј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ије одговорила на три питања:</a:t>
            </a:r>
            <a:br>
              <a:rPr sz="3600"/>
            </a:br>
            <a:endParaRPr b="0" lang="en-US" sz="2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Како и зашто старимо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Каква је улога процеса старења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52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sr-R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Да ли на овај процес можемо да утичемо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арактеристике малигне ћелије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еправилна деоба ћелије и неограничен ра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Једра су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мењ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ћи број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упних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уклеолу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омењен метаболизам-с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тетишу се нови протеини, а престају да се синтетишу уобичаје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а површини ћелија се појављују нови антиге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а мења облик и организациј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ња се однос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е и околног тки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Губи се ткивна контрол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ћелије су хаотично распор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е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Губе се карактеристике диференциране ћелије или  престаје диференцијација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3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Малигни тумори се </a:t>
            </a:r>
            <a:r>
              <a:rPr b="1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класификују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према ткиву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у коме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настају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Сарком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тумори мишићног и везивног ткив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кости, тетиве, хрскавиц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Карцином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тумори епителних ћелиј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 (кожа, плућа, дојка, панкреас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Лимфом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канцер лимфоидног тки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Леукеми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 мијеломи</a:t>
            </a:r>
            <a:r>
              <a:rPr b="0" lang="sr-C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малигне неоплазме леукоци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Постоје два основна пута </a:t>
            </a:r>
            <a:br>
              <a:rPr sz="36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настанка канцер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7643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78920" y="2060280"/>
            <a:ext cx="8425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ута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ционо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</a:rPr>
              <a:t> порекл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нцерогени агенси (хемијски агенси, зрачења.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вирусно порекл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русни онкогени - </a:t>
            </a:r>
            <a:r>
              <a:rPr b="1" i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акутно трансформишући вирус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нсерциона активација ћелијских протоонк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1" i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- споро трансформишући вируси</a:t>
            </a:r>
            <a:r>
              <a:rPr b="0" lang="sr-CS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уграђују се  у геном домаћина уз протоонкогене и тиме их активирају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2320" y="15570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Бовер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(1914)</a:t>
            </a:r>
            <a:r>
              <a:rPr b="0" lang="sr-Latn-CS" sz="2800" spc="-1" strike="noStrike">
                <a:solidFill>
                  <a:srgbClr val="dbf5f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2200" y="2852280"/>
            <a:ext cx="7921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 Боверијеу основни узрок појаве рака су “</a:t>
            </a:r>
            <a:r>
              <a:rPr b="1" i="1" lang="sr-RS" sz="2200" spc="-1" strike="noStrike" u="sng">
                <a:solidFill>
                  <a:srgbClr val="000000"/>
                </a:solidFill>
                <a:uFillTx/>
                <a:latin typeface="Arial"/>
              </a:rPr>
              <a:t>сомаци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”, мутације телесних ћелиј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Није се знало да ли су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хромозомск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аберације узрок или последица малигне алтерације ћел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малиг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м ћелијам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могу се детектовати и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нумеричке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структурне</a:t>
            </a:r>
            <a:r>
              <a:rPr b="0" lang="sr-Latn-C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аберације хромозо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042920" y="1890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. Мутационо порекло канц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Нумеричке аберациј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K</a:t>
            </a: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арцином грлића материце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ромене у броју хромозома пре пробоја базалне мембране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cinom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sit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у време инвазије тумора-полиплоидије и маркер хромозоми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шчезава линија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ћелиј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 у другим облицима канц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огу се детектовати 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триплоидије, тетраплоиди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</a:rPr>
              <a:t> анеуплоидиј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00000"/>
                </a:solidFill>
                <a:latin typeface="Arial"/>
              </a:rPr>
              <a:t>Псеудодиплоидиј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0" lang="sr-CS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 појава да малигна ћелија им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хромозома, при чему су се неки од нормалних хромозома изгубили, док се другима број повећа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Ryzen</cp:lastModifiedBy>
  <dcterms:modified xsi:type="dcterms:W3CDTF">2022-01-18T12:17:48Z</dcterms:modified>
  <cp:revision>253</cp:revision>
  <dc:subject/>
  <dc:title>MUTACIJE GENA</dc:title>
</cp:coreProperties>
</file>